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E101E-C8DA-4A42-8BC0-F61DB7EA8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234E-2AE4-461B-9957-8D205742A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1D903-8FF6-4B19-B003-C2376CE74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8D0BF-05A9-443B-B64F-968DAFF4D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E838183-007B-4C7D-A8D4-120E67F13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149E2D-3E33-4E47-B8B1-86C91696B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380F09-AF91-439D-BF05-0798D3BEA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B77ADA-0B19-48C3-B16A-8FB7A2642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42F751-04B6-4717-9A49-F4BE77416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8433B8-FB6A-4682-B100-5D09BDAB3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375E79-6B58-442A-B913-DBA805C42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034B-9D64-4AB2-AE97-181E84F5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208F51-4BD2-4687-8874-5C8E7D79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BB19F0-B06E-4981-8E8D-24D98F8A8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AC5781-3FF8-4C87-8B73-49542697C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7DB387-977C-49ED-8A50-AF8DF50BA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426E3B-F568-4251-9A6F-7AFA6FC08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ECB2-05CC-42AE-A254-675FD2F0C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F0FF-D6AE-496B-A7DE-5BEB3F2A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FAF6-BE0C-457B-B9A7-D3966AC21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92912-B553-467B-9A8A-5F59C44A9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FF54-02EA-4E77-97AB-921A62CE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9B3E-732C-49AF-8D60-3E46DF00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2459-BF8C-4D23-88DF-93AD55E11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3E6C-D2B2-44D6-8FA5-20E551ADFAC0}" type="slidenum">
              <a:rPr b="0"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EE8D-23C0-411F-8121-89AFC1E5B986}"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Idioma_&#225;rabe" TargetMode="External"/><Relationship Id="rId2" Type="http://schemas.openxmlformats.org/officeDocument/2006/relationships/hyperlink" Target="http://es.wikipedia.org/wiki/C&#243;rdoba_%28Espa&#241;a%29" TargetMode="External"/><Relationship Id="rId3" Type="http://schemas.openxmlformats.org/officeDocument/2006/relationships/hyperlink" Target="http://es.wikipedia.org/wiki/7_de_noviembre"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4084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e3e3ff"/>
                </a:solidFill>
                <a:uFillTx/>
                <a:latin typeface="Times New Roman"/>
              </a:rPr>
              <a:t>LITERATURA EN AL-ANDALUS O HISPANOARABE</a:t>
            </a:r>
            <a:br>
              <a:rPr sz="2000"/>
            </a:br>
            <a:r>
              <a:rPr b="1" lang="es-MX" sz="2000" spc="-1" strike="noStrike" u="sng">
                <a:solidFill>
                  <a:srgbClr val="e3e3ff"/>
                </a:solidFill>
                <a:uFillTx/>
                <a:latin typeface="Times New Roman"/>
              </a:rPr>
              <a:t>(711-1492)</a:t>
            </a:r>
            <a:endParaRPr b="0" lang="en-US" sz="2000" spc="-1" strike="noStrike">
              <a:solidFill>
                <a:srgbClr val="e3e3ff"/>
              </a:solidFill>
              <a:latin typeface="Arial"/>
            </a:endParaRPr>
          </a:p>
        </p:txBody>
      </p:sp>
      <p:sp>
        <p:nvSpPr>
          <p:cNvPr id="122" name="PlaceHolder 2"/>
          <p:cNvSpPr>
            <a:spLocks noGrp="1"/>
          </p:cNvSpPr>
          <p:nvPr>
            <p:ph/>
          </p:nvPr>
        </p:nvSpPr>
        <p:spPr>
          <a:xfrm>
            <a:off x="395280" y="1699920"/>
            <a:ext cx="8353440" cy="4537080"/>
          </a:xfrm>
          <a:prstGeom prst="rect">
            <a:avLst/>
          </a:prstGeom>
          <a:noFill/>
          <a:ln w="0">
            <a:noFill/>
          </a:ln>
        </p:spPr>
        <p:txBody>
          <a:bodyPr lIns="90000" rIns="90000" tIns="46800" bIns="46800" anchor="t">
            <a:normAutofit fontScale="68000"/>
          </a:bodyPr>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vasión y conquista de la Península Ibérica (711-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eyendas sobre las conquistas del Al-Andalus</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rabización e islamización de Hispani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rdoba, capital de Al-Andalus (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roclamación del Emirato Independiente Omeya en Al Andalus (755):</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bdur-Rahman I, Emir y poeta (poesía de nostalgia y exilio)</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literatos andalusíes. El movimiento modernista. Ziryab, símbolo de l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bagdadización, la música y las normas sociales. El estilo neoclásico y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rosa ornada (762-852)</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oesía estrófica: la muwashaha y la jarya (866)</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l Califato Omeya en Al-Andalus: Abdur-Rahman III y el auge y esplendor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 (930): la uryuza o el canto narrativo épico árabigoandalus (Ibn Abd</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bbih)</a:t>
            </a:r>
            <a:endParaRPr b="0" lang="en-US" sz="1800" spc="-1" strike="noStrike">
              <a:solidFill>
                <a:srgbClr val="ffffff"/>
              </a:solidFill>
              <a:latin typeface="Arial"/>
            </a:endParaRPr>
          </a:p>
          <a:p>
            <a:pPr marL="233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233280">
              <a:lnSpc>
                <a:spcPct val="8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500" spc="-1" strike="noStrike" u="sng">
                <a:solidFill>
                  <a:srgbClr val="ffffff"/>
                </a:solidFill>
                <a:uFillTx/>
                <a:latin typeface="Arial"/>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735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67" name=""/>
          <p:cNvSpPr/>
          <p:nvPr/>
        </p:nvSpPr>
        <p:spPr>
          <a:xfrm>
            <a:off x="324000" y="260280"/>
            <a:ext cx="8532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Sobre las Señales del Am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iene el amor señales que persigue el hombre avisado y que pue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llegar a descubrir un observador intelig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s la primera de todas la insistencia de la mirada, porque es el ojo puerta abierta del alma, que deja ver sus interioridades, revela su intimidad y delata sus secretos. Así, verás que cuando mira el amante, no pestañea y que muda su mirada adonde el amado se muda, re retira adonde él se retira, y se inclina adonde él se inclina, como hace el camaleón con el s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250920" y="190440"/>
            <a:ext cx="8648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s señales del amor son</a:t>
            </a:r>
            <a:r>
              <a:rPr b="1" lang="es-ES_tradnl" sz="1800" spc="-1" strike="noStrike">
                <a:solidFill>
                  <a:srgbClr val="ffffff"/>
                </a:solidFill>
                <a:latin typeface="Times New Roman"/>
              </a:rPr>
              <a:t>: que el amante vuele presuroso hacia el sitio en que est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amado; que busque pretextos para sentarse a su lado y acercarse a él; y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bandone los trabajos que le obligarían a estar lejos de él, dé al traste con l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suntos graves que le forzarían a separase de él, y se haga el remolón en part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su la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señal</a:t>
            </a:r>
            <a:r>
              <a:rPr b="1" lang="es-ES_tradnl" sz="1800" spc="-1" strike="noStrike">
                <a:solidFill>
                  <a:srgbClr val="ffffff"/>
                </a:solidFill>
                <a:latin typeface="Times New Roman"/>
              </a:rPr>
              <a:t> es la sorpresa y ansiedad que se pintan en el rostro del amante cu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mpensadamente ve a quien ama o éste aparece de súbito, así como el azoramien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que se apodera de él cuando ve a alguien que se parece a su amado, o cuando oy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nombrar a éste de repente.</a:t>
            </a:r>
            <a:r>
              <a:rPr b="0"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de las señales</a:t>
            </a:r>
            <a:r>
              <a:rPr b="1" lang="es-ES_tradnl" sz="1800" spc="-1" strike="noStrike">
                <a:solidFill>
                  <a:srgbClr val="ffffff"/>
                </a:solidFill>
                <a:latin typeface="Times New Roman"/>
              </a:rPr>
              <a:t> es que el amante dé con liberalidad cuanto pueda de aquella que antes disfrutaba por sí mismo, y ello como si fuese él quien recibiera el regalo y como si en hacerlo le fuera su propia felicidad, cuando solo le mueve el deseo de lucir sus atractivos y hacerse amable. Por el amor, los tacaños se hacen desprendidos; los huraños desfruncen el ceño; los cobardes se envalentonan; los ásperos se vuelven sensibles; los ignorantes se pulen; los desaliñados se atildan; los sucios se limpian; los viejos se las dan de jóvenes; los ascetas rompen sus votos, y los castos se tornan disol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735120" y="49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0" name=""/>
          <p:cNvSpPr/>
          <p:nvPr/>
        </p:nvSpPr>
        <p:spPr>
          <a:xfrm>
            <a:off x="324000" y="404640"/>
            <a:ext cx="882000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aro es que estas señales aparecen antes que prenda el fuego del amor y el calor abrase y el tizón arda y se levante la llama, porque, una vez que el amor se enseñorea y hace pie, no ves más que coloquios secretos y un paladino alejamiento de todo lo que no sea el amado</a:t>
            </a:r>
            <a:r>
              <a:rPr b="1" lang="es-ES_tradnl"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Otras señales e indicios de amor</a:t>
            </a:r>
            <a:r>
              <a:rPr b="1" lang="es-ES_tradnl" sz="2000" spc="-1" strike="noStrike">
                <a:solidFill>
                  <a:srgbClr val="ffffff"/>
                </a:solidFill>
                <a:latin typeface="Times New Roman"/>
              </a:rPr>
              <a:t>, patentes para el que tenga ojos en la cara, son: la animación excesiva y desmesurada; el estar muy juntos donde hay mucho espacio; el forcejear por cualquier cosa que haya cogido uno de los dos; el hacerse frecuentes guiños furtivos; la tendencia a apretarse el uno contra el otro; el cogerse intencionadamente la mano mientras hablan; el acariciarse los miembros visibles, donde sea hacedero, y el beber lo que quedó en el vaso del amado, escogiendo el lugar mismo donde posó sus lab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02384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70200" y="260280"/>
            <a:ext cx="90734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aece asimismo al verdadero amante que, a veces, se pone a comer c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petito, cuando de repente el recuerdo del ser amado le excita de tal modo 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comida se le atraganta en la garganta y le obtura el tragadero. Otro tanto 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ucede con el agua. Relativo a la conversación, en ocasiones, la inicia mu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imado, cuando, de improviso, le asalta un pensamiento cualquiera acer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ser amado, y entonces se aprecia claro cómo se le traba la lengua y empi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 balbucear, y se observa claramente que se pone taciturno, cabizbajo y retraí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Hacía un momento su fisonomía era risueña y sus maneras desenvueltas; pe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rápidamente se torna hosco e inerte; su alma está perpleja, sus movimi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on rígidos; se aburre de hablar y siente tedio cuando le pregun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de amor son</a:t>
            </a:r>
            <a:r>
              <a:rPr b="1" lang="es-ES_tradnl" sz="1800" spc="-1" strike="noStrike">
                <a:solidFill>
                  <a:srgbClr val="ffffff"/>
                </a:solidFill>
                <a:latin typeface="Arial"/>
              </a:rPr>
              <a:t>: la afición a la soledad; la preferencia por el reti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y la extenuación del cuerpo, cuando no hay en él fiebre ni dolor que le imp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r de un lado para otro ni moverse. El insomnio es otro de los accidentes de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antes. Los poetas han sido profusos en describirlo; suelen decir que son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apacentadores de estrellas”, y se lamentan de lo larga que es la noc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3e3ff"/>
                </a:solidFill>
                <a:latin typeface="Times New Roman"/>
              </a:rPr>
              <a:t>LA LITERATURA ARÁBIGOANDALUSA EN EL OCASO (XII-XIII)</a:t>
            </a:r>
            <a:br>
              <a:rPr sz="18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femenina: libertad de la mujer en el quehacer lírico: Butayna Bint Al-Mutamid, Wallada Bint Al-Mustakfi (hija de rey por 17 meses, huyó disfrazado y asesinado), Hafsa Bint al-Hayy ar Rakuniyya de Granada (1135-119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mística: el amor humano hacia lo divino: Ibn Arabí (Murcia,1164-Damasco,12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tema elegíaco por la pérdida de Al- Andalu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324000" y="-10800"/>
            <a:ext cx="8820000" cy="640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 Butayna Bint Al-Mutamid (hija del rey de Sevilla m. 1095, en exi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t>
            </a:r>
            <a:r>
              <a:rPr b="1" lang="es-ES" sz="2000" spc="-1" strike="noStrike">
                <a:solidFill>
                  <a:srgbClr val="ffffff"/>
                </a:solidFill>
                <a:latin typeface="Times New Roman"/>
              </a:rPr>
              <a:t>Escucha mi discurso y atiende mis palabras, pues la conducta muestra quién es noble. No ignores que fui cautivada, mas tampoco que soy hija de un rey descendiente de los 'Abbadíes, un gran rey cuya época se ha aleja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í el tiempo se encamina hacia la ruina!-. Cuando Dios quiso separam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nos hizo probar, como viático, el sabor de la tristez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e alzó la hipocres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a mi padre y en su propio rei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la separación, que nadie deseaba, se acerc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alí huyendo, se apoderó de mí un homb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 en su actuar, no se portó rectamen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ues me vendió como se vende a los esclavos; pero me ha unido a quien de to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 protege excepto de la adversidad, y me quiere para casarme con un hijo casto, emprendedor, de buen carácter, que va a ti a pedir tu opinión para satisfacer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a ves la integridad de mi conduc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Ojalá, padre mío, me informes si esperar puede mi afec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ojalá ar-Rumaykiyya, la reina, con su fav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ida para nosotros prosperidad y dic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468360" y="404640"/>
            <a:ext cx="8351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Wallada Bint Al-Mustakfi m. 1077, (hija de rey por 17 meses, que huyó disfrazado de mujer y asesinado</a:t>
            </a:r>
            <a:r>
              <a:rPr b="0" lang="es-MX"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OEMA QUE W ALLÁDA HIZO BORDAR EN ORO SOBRE SU VEST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o ¡por Dios! merezco la grand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sigo orgullosa mi cami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oy gustosa mi mejilla a mi enamo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Arial"/>
              </a:rPr>
              <a:t>y doy mis besos a quien los qui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CRIBIÓ EN UN BILLETE PARA CITAR 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las tinieblas se espesen, espera mi visi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ues creo que la noc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 la mejor guardadora de secr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que siento por ti, al sol impedirá bri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a la luna salir y a las estrellas corr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250920" y="0"/>
            <a:ext cx="9217080" cy="40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WALLADA A IBN </a:t>
            </a:r>
            <a:r>
              <a:rPr b="1" sz="1800" spc="-1" strike="noStrike">
                <a:solidFill>
                  <a:srgbClr val="ffffff"/>
                </a:solidFill>
                <a:latin typeface="Times New Roman"/>
              </a:rPr>
              <a:t>ZAYDÚN, REPROCHÁNDOLE SU DESVÍO Y SU INCLINACIÓN POR UNA ESCLAVA NEG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i hubieses sido justo en el amor que hay entre nosotr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no amarías, ni hubieses preferido, a una esclava m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Has dejado la rama que fructifica en belleza</a:t>
            </a:r>
            <a:r>
              <a:rPr b="1" lang="es-MX"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y has cogido rama que no da fru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abes que soy la luna de los cie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pero has elegido, para mi desgracia, sombrío plan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
          <p:cNvSpPr/>
          <p:nvPr/>
        </p:nvSpPr>
        <p:spPr>
          <a:xfrm>
            <a:off x="755640" y="404640"/>
            <a:ext cx="6553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808200" y="404640"/>
            <a:ext cx="6419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ÁTIRA DEL SEIS,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e apodas el se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este mote no te dejará mientras v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es eres marica, puto y fornicard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rnudo, cabrón y ladr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OTRA SÁTIRA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 pesar de sus méritos, Ibn Zaydún a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vergas que se guardan en los zaragüelles [calz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 hubiese visto falo en las palmer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habría convertido en pájaro ababil [carpint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695240" y="404640"/>
            <a:ext cx="561384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esía de Ibn Arabí (Murcia 1164- Damasco, 12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 en mi coraz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 en mi al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corazón arde la pasión como un fueg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alma se ha puesto una luna de tinie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almiz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l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ramos sobre la d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ve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esplend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ánto ar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Oh boca sonriente, cuya humedad ad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aliva cuya miel he prob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una revelada, con las mejillas cubier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l rojo atardec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nuda de sus v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ería tormento y por ello es esqu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e3e3ff"/>
                </a:solidFill>
                <a:uFillTx/>
                <a:latin typeface="Times New Roman"/>
              </a:rPr>
              <a:t>LA LITERATURA ARÁBIGOANDALUSA EN EL SIGLO XI Y XII</a:t>
            </a:r>
            <a:br>
              <a:rPr sz="1800"/>
            </a:b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4" name="PlaceHolder 2"/>
          <p:cNvSpPr>
            <a:spLocks noGrp="1"/>
          </p:cNvSpPr>
          <p:nvPr>
            <p:ph/>
          </p:nvPr>
        </p:nvSpPr>
        <p:spPr>
          <a:xfrm>
            <a:off x="0" y="1125000"/>
            <a:ext cx="9144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rdoba, Sevilla, Levante, Badajoz: centros literar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 corte de Almanzor: los literatos Ibn Zaydun y la princesa Wallada (temát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morosa, elegíaca, satí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Un tratados de amor: </a:t>
            </a:r>
            <a:r>
              <a:rPr b="1" i="1" lang="es-MX" sz="2000" spc="-1" strike="noStrike">
                <a:solidFill>
                  <a:srgbClr val="ffffff"/>
                </a:solidFill>
                <a:latin typeface="Times New Roman"/>
              </a:rPr>
              <a:t>El collar de la paloma </a:t>
            </a:r>
            <a:r>
              <a:rPr b="1" lang="es-MX" sz="2000" spc="-1" strike="noStrike">
                <a:solidFill>
                  <a:srgbClr val="ffffff"/>
                </a:solidFill>
                <a:latin typeface="Times New Roman"/>
              </a:rPr>
              <a:t>de</a:t>
            </a:r>
            <a:r>
              <a:rPr b="1" i="1" lang="es-MX" sz="2000" spc="-1" strike="noStrike">
                <a:solidFill>
                  <a:srgbClr val="ffffff"/>
                </a:solidFill>
                <a:latin typeface="Times New Roman"/>
              </a:rPr>
              <a:t> </a:t>
            </a:r>
            <a:r>
              <a:rPr b="1" lang="es-MX" sz="2000" spc="-1" strike="noStrike">
                <a:solidFill>
                  <a:srgbClr val="ffffff"/>
                </a:solidFill>
                <a:latin typeface="Times New Roman"/>
              </a:rPr>
              <a:t>Ibn Haz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esmembración del Califato. Las Taif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villa: centro de irradiación literaria. El rey Mu’tamid y la poesía de soleda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nostalgia y exil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816200" y="404640"/>
            <a:ext cx="5111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l mañanero que escala los ci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ramo de duna en un jardín pla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contemplo sin pausa, con temor reve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riego el ramo con suave lluvia 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uando se levanta es maravilla en la mi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se pone es causa de mi muer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de que la belleza puso sobre su f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rona de oro virgen, amo el 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Satán hubiera contemplado en Adá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l fulgor de su rostro, no se hubiera revuel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258920" y="260280"/>
            <a:ext cx="5594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i Hermes hubiera interpretado las lín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la belleza escribió en su rost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hubiera escrito 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la reina de Saba la hubiera visto sobre el tro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pensara en el suyo, ni en pala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el sarh en el valle, el ban en la espes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viadme con la brisa vuestro perfu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argado del aroma dul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 las flores entre sus valles y co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ban del valle!, muéstrame tus ra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brotes suaves como las líneas de su cuer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arra la brisa la juventud pas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 Hágir, en Miná y Qubá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3e3ff"/>
                </a:solidFill>
                <a:latin typeface="Arial"/>
              </a:rPr>
              <a:t>La literatura árabe en la decadencia. El reino de Granada  (1232-1492)</a:t>
            </a:r>
            <a:endParaRPr b="0" lang="en-US" sz="2000" spc="-1" strike="noStrike">
              <a:solidFill>
                <a:srgbClr val="e3e3ff"/>
              </a:solidFill>
              <a:latin typeface="Arial"/>
            </a:endParaRPr>
          </a:p>
        </p:txBody>
      </p:sp>
      <p:sp>
        <p:nvSpPr>
          <p:cNvPr id="184"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os poetas funcionarios granadinos. Conservación de los cancioneros o diwanes de los poet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negíricos hacia los reyes árabes en sus tronos y triunfos en las guerras nav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epigráfica (conservadas en la Alhambra y el Generalife (Ibn Zamrak, Ibn Al- Jatib), para cantar la gloria de sus constructores lo poderosos sultanes, rey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fuera de los palacios: temas del placer fugaz, la caducidad, los trenos o endechas en recuerdo de sus difunt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guerra de Granada: poesía de odio hacia el cristiano, desesperanza y pérdi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1549440" y="0"/>
            <a:ext cx="10693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86" name="PlaceHolder 1"/>
          <p:cNvSpPr>
            <a:spLocks noGrp="1"/>
          </p:cNvSpPr>
          <p:nvPr>
            <p:ph type="title"/>
          </p:nvPr>
        </p:nvSpPr>
        <p:spPr>
          <a:xfrm>
            <a:off x="611280" y="692280"/>
            <a:ext cx="7618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187" name="PlaceHolder 2"/>
          <p:cNvSpPr>
            <a:spLocks noGrp="1"/>
          </p:cNvSpPr>
          <p:nvPr>
            <p:ph/>
          </p:nvPr>
        </p:nvSpPr>
        <p:spPr>
          <a:xfrm>
            <a:off x="-360" y="1125360"/>
            <a:ext cx="8785080" cy="474192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antos historiales compuestos por poetas hispanos y árabes conversos para lamentarse de la caída de la cultura y civilización de Al- Andalus. Se remontan a la tradición literaria árabe (luchas tribales, leyenda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Tópicos recurrentes: la ciudad a conquistar presentada como novia y su conquista como un matrimonio; los palacios son altos y relucientes; lamento del destierro, entre otr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 conservan romances fronterizos: estos se caracterizan por la fusión de dos culturas: cristiana y musulmana, y recrean encuentros  y desencuentros entre bandos riva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os romances moriscos están escrito desde la perspectiva de un cristiano que mira con simpatía la situación de pérdida del vencido moro.</a:t>
            </a:r>
            <a:br>
              <a:rPr sz="2000"/>
            </a:br>
            <a:r>
              <a:rPr b="1" lang="es-MX"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2968200" y="423720"/>
            <a:ext cx="21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ROMANCES </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539640" y="260280"/>
            <a:ext cx="6985080" cy="61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 romance morisco “La morilla burlad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t>
            </a:r>
            <a:r>
              <a:rPr b="1" lang="es-MX" sz="2000" spc="-1" strike="noStrike">
                <a:solidFill>
                  <a:srgbClr val="ffffff"/>
                </a:solidFill>
                <a:latin typeface="Times New Roman"/>
              </a:rPr>
              <a:t>Yo m’era mora Moraima,                  Cuando esto oí, cuita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Morilla de un bel catar;                       coménceme a levan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ristiano vino a mi puerta,                 vistiérame una almej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uitada, por m’engañar.                     No hallando mi br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áblome en algarabía                         fuérame para la puer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mo aquél que la bien sabe:            y abríla de par en p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brasme las puertas, mor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Alá te guarde de m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mo t’abriré, mezquin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no sé quién te será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Yo soy el moro Mazo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ermano de la tu m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un cristiano dejó muer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r>
              <a:rPr b="1" lang="es-MX" sz="2000" spc="-1" strike="noStrike">
                <a:solidFill>
                  <a:srgbClr val="ffffff"/>
                </a:solidFill>
                <a:latin typeface="Times New Roman"/>
              </a:rPr>
              <a:t>tras de mí venía el alcal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no me abres tú, mi vi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quí me verás ma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39640" y="476280"/>
            <a:ext cx="8604360" cy="110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ibliograf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Jessica Castro y Raquel Villalobos. “poesía hispanoárabe del siglo XII. Imagen de un equívoco”. En </a:t>
            </a:r>
            <a:r>
              <a:rPr b="1" i="1" lang="es-MX" sz="1800" spc="-1" strike="noStrike">
                <a:solidFill>
                  <a:srgbClr val="ffffff"/>
                </a:solidFill>
                <a:latin typeface="Times New Roman"/>
              </a:rPr>
              <a:t>Cyber Humanitatis</a:t>
            </a:r>
            <a:r>
              <a:rPr b="1" lang="es-MX" sz="1800" spc="-1" strike="noStrike">
                <a:solidFill>
                  <a:srgbClr val="ffffff"/>
                </a:solidFill>
                <a:latin typeface="Times New Roman"/>
              </a:rPr>
              <a:t> 39 (invierno 20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Irma Césped. “En torno a la lírica primitiva”. En </a:t>
            </a:r>
            <a:r>
              <a:rPr b="1" i="1" lang="es-MX" sz="1800" spc="-1" strike="noStrike">
                <a:solidFill>
                  <a:srgbClr val="ffffff"/>
                </a:solidFill>
                <a:latin typeface="Times New Roman"/>
              </a:rPr>
              <a:t>Revista Chilena de Literatura</a:t>
            </a:r>
            <a:r>
              <a:rPr b="1" lang="es-MX" sz="1800" spc="-1" strike="noStrike">
                <a:solidFill>
                  <a:srgbClr val="ffffff"/>
                </a:solidFill>
                <a:latin typeface="Times New Roman"/>
              </a:rPr>
              <a:t> 9-10 (197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mérico Castro. </a:t>
            </a:r>
            <a:r>
              <a:rPr b="1" i="1" lang="es-MX" sz="1800" spc="-1" strike="noStrike">
                <a:solidFill>
                  <a:srgbClr val="ffffff"/>
                </a:solidFill>
                <a:latin typeface="Times New Roman"/>
              </a:rPr>
              <a:t>La realidad histórica de España</a:t>
            </a:r>
            <a:r>
              <a:rPr b="1" lang="es-MX" sz="1800" spc="-1" strike="noStrike">
                <a:solidFill>
                  <a:srgbClr val="ffffff"/>
                </a:solidFill>
                <a:latin typeface="Times New Roman"/>
              </a:rPr>
              <a:t>. México, Editorial Porrúa, 19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Mikel de Epalza. </a:t>
            </a:r>
            <a:r>
              <a:rPr b="1" i="1" lang="es-MX" sz="1800" spc="-1" strike="noStrike">
                <a:solidFill>
                  <a:srgbClr val="ffffff"/>
                </a:solidFill>
                <a:latin typeface="Times New Roman"/>
              </a:rPr>
              <a:t>Los moriscos antes y después de la expulsión.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fonso Escudero (edición y selección). </a:t>
            </a:r>
            <a:r>
              <a:rPr b="1" i="1" lang="es-MX" sz="1800" spc="-1" strike="noStrike">
                <a:solidFill>
                  <a:srgbClr val="ffffff"/>
                </a:solidFill>
                <a:latin typeface="Times New Roman"/>
              </a:rPr>
              <a:t>Romancero español</a:t>
            </a:r>
            <a:r>
              <a:rPr b="1" lang="es-MX" sz="1800" spc="-1" strike="noStrike">
                <a:solidFill>
                  <a:srgbClr val="ffffff"/>
                </a:solidFill>
                <a:latin typeface="Times New Roman"/>
              </a:rPr>
              <a:t>. Santiago de Chile, Editorial Nascimento, 1976. Véase pp. 285-3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Emilio García Gómez. </a:t>
            </a:r>
            <a:r>
              <a:rPr b="1" i="1" lang="es-MX" sz="1800" spc="-1" strike="noStrike">
                <a:solidFill>
                  <a:srgbClr val="ffffff"/>
                </a:solidFill>
                <a:latin typeface="Times New Roman"/>
              </a:rPr>
              <a:t>Las jarchas romances de la serie árabe en su marco</a:t>
            </a:r>
            <a:r>
              <a:rPr b="1" lang="es-MX" sz="1800" spc="-1" strike="noStrike">
                <a:solidFill>
                  <a:srgbClr val="ffffff"/>
                </a:solidFill>
                <a:latin typeface="Times New Roman"/>
              </a:rPr>
              <a:t>. Madrid, Sociedad de Estudios  y Publicaciones, 196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 </a:t>
            </a:r>
            <a:r>
              <a:rPr b="1" i="1" lang="es-MX" sz="1800" spc="-1" strike="noStrike">
                <a:solidFill>
                  <a:srgbClr val="ffffff"/>
                </a:solidFill>
                <a:latin typeface="Times New Roman"/>
              </a:rPr>
              <a:t>Poesía arábigoandalusa</a:t>
            </a:r>
            <a:r>
              <a:rPr b="1" lang="es-MX" sz="1800" spc="-1" strike="noStrike">
                <a:solidFill>
                  <a:srgbClr val="ffffff"/>
                </a:solidFill>
                <a:latin typeface="Times New Roman"/>
              </a:rPr>
              <a:t>. Madrid, Instituto Faruk 1° de Estudios Islámicos, 19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varo Galmés de Fuentes. </a:t>
            </a:r>
            <a:r>
              <a:rPr b="1" i="1" lang="es-MX" sz="1800" spc="-1" strike="noStrike">
                <a:solidFill>
                  <a:srgbClr val="ffffff"/>
                </a:solidFill>
                <a:latin typeface="Times New Roman"/>
              </a:rPr>
              <a:t>Épica árabe y épica castellana</a:t>
            </a:r>
            <a:r>
              <a:rPr b="1" lang="es-MX" sz="1800" spc="-1" strike="noStrike">
                <a:solidFill>
                  <a:srgbClr val="ffffff"/>
                </a:solidFill>
                <a:latin typeface="Times New Roman"/>
              </a:rPr>
              <a:t>. Barcelona, Editorial Ariel, 1978</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ierre Guichard. </a:t>
            </a:r>
            <a:r>
              <a:rPr b="1" i="1" lang="es-MX" sz="1800" spc="-1" strike="noStrike">
                <a:solidFill>
                  <a:srgbClr val="ffffff"/>
                </a:solidFill>
                <a:latin typeface="Times New Roman"/>
              </a:rPr>
              <a:t>Al- Andalus. Estructura antropológica de una sociedad islámica en Occidente</a:t>
            </a:r>
            <a:r>
              <a:rPr b="1" lang="es-MX" sz="1800" spc="-1" strike="noStrike">
                <a:solidFill>
                  <a:srgbClr val="ffffff"/>
                </a:solidFill>
                <a:latin typeface="Times New Roman"/>
              </a:rPr>
              <a:t>. Granada, servicio de Publicaciones de la Universidad de Granada, 1995</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món Menéndez Pidal. </a:t>
            </a:r>
            <a:r>
              <a:rPr b="1" i="1" lang="es-MX" sz="1800" spc="-1" strike="noStrike">
                <a:solidFill>
                  <a:srgbClr val="ffffff"/>
                </a:solidFill>
                <a:latin typeface="Times New Roman"/>
              </a:rPr>
              <a:t>España, eslabón entre la cristiandad y el Islam</a:t>
            </a:r>
            <a:r>
              <a:rPr b="1" lang="es-MX" sz="1800" spc="-1" strike="noStrike">
                <a:solidFill>
                  <a:srgbClr val="ffffff"/>
                </a:solidFill>
                <a:latin typeface="Times New Roman"/>
              </a:rPr>
              <a:t>. Madrid, Espasa –Calpe, 1956.</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nuela Marín. </a:t>
            </a:r>
            <a:r>
              <a:rPr b="1" i="1" lang="es-MX" sz="1800" spc="-1" strike="noStrike">
                <a:solidFill>
                  <a:srgbClr val="ffffff"/>
                </a:solidFill>
                <a:latin typeface="Times New Roman"/>
              </a:rPr>
              <a:t>Individuo y sociedad en Al-Andalus.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ría Jesús Rubiera Mata. </a:t>
            </a:r>
            <a:r>
              <a:rPr b="1" i="1" lang="es-MX" sz="1800" spc="-1" strike="noStrike">
                <a:solidFill>
                  <a:srgbClr val="ffffff"/>
                </a:solidFill>
                <a:latin typeface="Times New Roman"/>
              </a:rPr>
              <a:t>Literatura Hispanoárabe</a:t>
            </a:r>
            <a:r>
              <a:rPr b="1" lang="es-MX" sz="1800" spc="-1" strike="noStrike">
                <a:solidFill>
                  <a:srgbClr val="ffffff"/>
                </a:solidFill>
                <a:latin typeface="Times New Roman"/>
              </a:rPr>
              <a:t>. 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 </a:t>
            </a:r>
            <a:r>
              <a:rPr b="1" i="1" lang="es-MX" sz="1600" spc="-1" strike="noStrike">
                <a:solidFill>
                  <a:srgbClr val="ffffff"/>
                </a:solidFill>
                <a:latin typeface="Times New Roman"/>
              </a:rPr>
              <a:t> </a:t>
            </a:r>
            <a:r>
              <a:rPr b="1" lang="es-MX"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468360" y="260280"/>
            <a:ext cx="8496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bn Hazm de Córdoba </a:t>
            </a:r>
            <a:r>
              <a:rPr b="1" i="1" lang="es-MX" sz="1800" spc="-1" strike="noStrike">
                <a:solidFill>
                  <a:srgbClr val="ffffff"/>
                </a:solidFill>
                <a:latin typeface="Times New Roman"/>
              </a:rPr>
              <a:t>El collar de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li ibn Ahmad ibn Sa`id ibn Haz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t>
            </a:r>
            <a:r>
              <a:rPr b="0" sz="1800" spc="-1" strike="noStrike" u="sng">
                <a:solidFill>
                  <a:srgbClr val="00ffcc"/>
                </a:solidFill>
                <a:uFillTx/>
                <a:latin typeface="Arial"/>
                <a:hlinkClick r:id="rId1"/>
              </a:rPr>
              <a:t>Árabe</a:t>
            </a:r>
            <a:r>
              <a:rPr b="1" i="1" sz="1800" spc="-1" strike="noStrike">
                <a:solidFill>
                  <a:srgbClr val="ffffff"/>
                </a:solidFill>
                <a:latin typeface="Arial"/>
              </a:rPr>
              <a:t>: </a:t>
            </a:r>
            <a:r>
              <a:rPr b="1" i="1" lang="ar-SA" sz="1800" spc="-1" strike="noStrike">
                <a:solidFill>
                  <a:srgbClr val="ffffff"/>
                </a:solidFill>
                <a:latin typeface="Arial"/>
              </a:rPr>
              <a:t>أبو محمد</a:t>
            </a:r>
            <a:r>
              <a:rPr b="1" i="1" lang="ar-SA"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لي بن احمد بن سعيد بن حزم</a:t>
            </a:r>
            <a:r>
              <a:rPr b="1" i="1" sz="1800" spc="-1" strike="noStrike">
                <a:solidFill>
                  <a:srgbClr val="ffffff"/>
                </a:solidFill>
                <a:latin typeface="Arial"/>
              </a:rPr>
              <a:t>), más conocido como Ibn Haz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 </a:t>
            </a:r>
            <a:r>
              <a:rPr b="1" i="1" sz="1800" spc="-1" strike="noStrike">
                <a:solidFill>
                  <a:srgbClr val="ffffff"/>
                </a:solidFill>
                <a:latin typeface="Arial"/>
              </a:rPr>
              <a:t>(</a:t>
            </a:r>
            <a:r>
              <a:rPr b="0" sz="1800" spc="-1" strike="noStrike" u="sng">
                <a:solidFill>
                  <a:srgbClr val="00ffcc"/>
                </a:solidFill>
                <a:uFillTx/>
                <a:latin typeface="Arial"/>
                <a:hlinkClick r:id="rId2"/>
              </a:rPr>
              <a:t>Córdoba</a:t>
            </a:r>
            <a:r>
              <a:rPr b="1" i="1" sz="1800" spc="-1" strike="noStrike">
                <a:solidFill>
                  <a:srgbClr val="ffffff"/>
                </a:solidFill>
                <a:latin typeface="Arial"/>
              </a:rPr>
              <a:t>, </a:t>
            </a:r>
            <a:r>
              <a:rPr b="0" sz="1800" spc="-1" strike="noStrike" u="sng">
                <a:solidFill>
                  <a:srgbClr val="00ffcc"/>
                </a:solidFill>
                <a:uFillTx/>
                <a:latin typeface="Arial"/>
                <a:hlinkClick r:id="rId3"/>
              </a:rPr>
              <a:t>7 de noviembre</a:t>
            </a:r>
            <a:r>
              <a:rPr b="1" i="1" sz="1800" spc="-1" strike="noStrike">
                <a:solidFill>
                  <a:srgbClr val="ffffff"/>
                </a:solidFill>
                <a:latin typeface="Arial"/>
              </a:rPr>
              <a:t> de 994 - Huelva, 15 de agosto 106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filósofo, teólogo, historiador, narrador y poeta hispanoárabe.</a:t>
            </a:r>
            <a:r>
              <a:rPr b="0"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emas: la esencia del amor, señales del amor, sobre quien se enamora en sueños, sobre quien se enamora por una sola mirada, sobre quien se enamora sino con el largo trato, sobre quien, amando una cualidad determinada, no puede amar luego ninguna otra contraria, sobre las alusiones verbales, sobre las señas hechas con los ojos,  sobre la correspondencia, sobre el mensajero, sobre la guarda del secreto, sobre la divulgación del secreto, sobre la sumisión, sobre la contradicción, sobre el que saca faltas, sobre el amigo favorable, sobre el espía, sobre el calumniador, sobre la unión amorosa, sobre la ruptura, sobre la lealtad, sobre la traición , sobre la separación, sobre la conformidad, sobre la enfermedad, sobre el olvido, sobre la muerte, sobre la fealdad del pecado, sobre la excelencia de la casti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La poesía estrófica o la Muwashaha</a:t>
            </a: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7" name="PlaceHolder 2"/>
          <p:cNvSpPr>
            <a:spLocks noGrp="1"/>
          </p:cNvSpPr>
          <p:nvPr>
            <p:ph/>
          </p:nvPr>
        </p:nvSpPr>
        <p:spPr>
          <a:xfrm>
            <a:off x="0" y="1600200"/>
            <a:ext cx="4038480" cy="4525920"/>
          </a:xfrm>
          <a:prstGeom prst="rect">
            <a:avLst/>
          </a:prstGeom>
          <a:solidFill>
            <a:srgbClr val="003399"/>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0</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p:txBody>
      </p:sp>
      <p:sp>
        <p:nvSpPr>
          <p:cNvPr id="128" name="PlaceHolder 3"/>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eludio (matla’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udanza (gus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uelta o copla (qufl)</a:t>
            </a:r>
            <a:endParaRPr b="0" lang="en-US" sz="2800" spc="-1" strike="noStrike">
              <a:solidFill>
                <a:srgbClr val="ffffff"/>
              </a:solidFill>
              <a:latin typeface="Arial"/>
            </a:endParaRPr>
          </a:p>
        </p:txBody>
      </p:sp>
      <p:sp>
        <p:nvSpPr>
          <p:cNvPr id="129" name=""/>
          <p:cNvSpPr/>
          <p:nvPr/>
        </p:nvSpPr>
        <p:spPr>
          <a:xfrm>
            <a:off x="3924360" y="3429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8028000" y="3357720"/>
            <a:ext cx="289080" cy="1942920"/>
          </a:xfrm>
          <a:custGeom>
            <a:avLst/>
            <a:gdLst>
              <a:gd name="textAreaLeft" fmla="*/ 0 w 289080"/>
              <a:gd name="textAreaRight" fmla="*/ 104400 w 289080"/>
              <a:gd name="textAreaTop" fmla="*/ 50400 h 1942920"/>
              <a:gd name="textAreaBottom" fmla="*/ 1892520 h 194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8532720" y="393372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132" name=""/>
          <p:cNvSpPr/>
          <p:nvPr/>
        </p:nvSpPr>
        <p:spPr>
          <a:xfrm>
            <a:off x="8317080" y="4005360"/>
            <a:ext cx="502920" cy="718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Arial"/>
              </a:rPr>
              <a:t>Estrofa (bay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861560" y="0"/>
            <a:ext cx="2850840" cy="667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4572000" y="54936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572000" y="2637000"/>
            <a:ext cx="71280" cy="1009440"/>
          </a:xfrm>
          <a:custGeom>
            <a:avLst/>
            <a:gdLst>
              <a:gd name="textAreaLeft" fmla="*/ 0 w 71280"/>
              <a:gd name="textAreaRight" fmla="*/ 25560 w 71280"/>
              <a:gd name="textAreaTop" fmla="*/ 26280 h 1009440"/>
              <a:gd name="textAreaBottom" fmla="*/ 983160 h 100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79736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148360" y="981000"/>
            <a:ext cx="934920" cy="71640"/>
          </a:xfrm>
          <a:prstGeom prst="rect">
            <a:avLst/>
          </a:prstGeom>
          <a:solidFill>
            <a:srgbClr val="3399ff"/>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38" name=""/>
          <p:cNvSpPr/>
          <p:nvPr/>
        </p:nvSpPr>
        <p:spPr>
          <a:xfrm>
            <a:off x="4788000" y="1628640"/>
            <a:ext cx="71280" cy="216000"/>
          </a:xfrm>
          <a:custGeom>
            <a:avLst/>
            <a:gdLst>
              <a:gd name="textAreaLeft" fmla="*/ 0 w 71280"/>
              <a:gd name="textAreaRight" fmla="*/ 25560 w 7128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84720" y="981000"/>
            <a:ext cx="358920" cy="935280"/>
          </a:xfrm>
          <a:custGeom>
            <a:avLst/>
            <a:gdLst>
              <a:gd name="textAreaLeft" fmla="*/ 0 w 358920"/>
              <a:gd name="textAreaRight" fmla="*/ 129600 w 358920"/>
              <a:gd name="textAreaTop" fmla="*/ 24120 h 935280"/>
              <a:gd name="textAreaBottom" fmla="*/ 911160 h 93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659640" y="1268280"/>
            <a:ext cx="1008000" cy="21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1" name=""/>
          <p:cNvSpPr/>
          <p:nvPr/>
        </p:nvSpPr>
        <p:spPr>
          <a:xfrm>
            <a:off x="4932360" y="2997360"/>
            <a:ext cx="107964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2" name=""/>
          <p:cNvSpPr/>
          <p:nvPr/>
        </p:nvSpPr>
        <p:spPr>
          <a:xfrm>
            <a:off x="4643280" y="3860640"/>
            <a:ext cx="144720" cy="216000"/>
          </a:xfrm>
          <a:custGeom>
            <a:avLst/>
            <a:gdLst>
              <a:gd name="textAreaLeft" fmla="*/ 0 w 144720"/>
              <a:gd name="textAreaRight" fmla="*/ 52200 w 1447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156360" y="2997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659640" y="3284640"/>
            <a:ext cx="86508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5" name=""/>
          <p:cNvSpPr/>
          <p:nvPr/>
        </p:nvSpPr>
        <p:spPr>
          <a:xfrm>
            <a:off x="5148360" y="981000"/>
            <a:ext cx="100800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6" name=""/>
          <p:cNvSpPr/>
          <p:nvPr/>
        </p:nvSpPr>
        <p:spPr>
          <a:xfrm>
            <a:off x="5364000" y="1628640"/>
            <a:ext cx="79236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7" name=""/>
          <p:cNvSpPr/>
          <p:nvPr/>
        </p:nvSpPr>
        <p:spPr>
          <a:xfrm>
            <a:off x="5003640" y="3860640"/>
            <a:ext cx="79236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8" name=""/>
          <p:cNvSpPr/>
          <p:nvPr/>
        </p:nvSpPr>
        <p:spPr>
          <a:xfrm>
            <a:off x="5940360" y="4869000"/>
            <a:ext cx="287280" cy="1439640"/>
          </a:xfrm>
          <a:custGeom>
            <a:avLst/>
            <a:gdLst>
              <a:gd name="textAreaLeft" fmla="*/ 0 w 287280"/>
              <a:gd name="textAreaRight" fmla="*/ 103680 w 28728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516720" y="5445000"/>
            <a:ext cx="1008000" cy="432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50" name=""/>
          <p:cNvSpPr/>
          <p:nvPr/>
        </p:nvSpPr>
        <p:spPr>
          <a:xfrm>
            <a:off x="4932360" y="501336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51" name=""/>
          <p:cNvSpPr/>
          <p:nvPr/>
        </p:nvSpPr>
        <p:spPr>
          <a:xfrm>
            <a:off x="4643280" y="6308640"/>
            <a:ext cx="71640" cy="71640"/>
          </a:xfrm>
          <a:custGeom>
            <a:avLst/>
            <a:gdLst>
              <a:gd name="textAreaLeft" fmla="*/ 0 w 71640"/>
              <a:gd name="textAreaRight" fmla="*/ 25920 w 71640"/>
              <a:gd name="textAreaTop" fmla="*/ 1800 h 71640"/>
              <a:gd name="textAreaBottom" fmla="*/ 69840 h 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52" name=""/>
          <p:cNvSpPr/>
          <p:nvPr/>
        </p:nvSpPr>
        <p:spPr>
          <a:xfrm>
            <a:off x="4643280" y="6021360"/>
            <a:ext cx="144720" cy="287280"/>
          </a:xfrm>
          <a:custGeom>
            <a:avLst/>
            <a:gdLst>
              <a:gd name="textAreaLeft" fmla="*/ 0 w 144720"/>
              <a:gd name="textAreaRight" fmla="*/ 52200 w 144720"/>
              <a:gd name="textAreaTop" fmla="*/ 7200 h 287280"/>
              <a:gd name="textAreaBottom" fmla="*/ 280080 h 2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4932360" y="595008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5</a:t>
            </a:r>
            <a:br>
              <a:rPr sz="2000"/>
            </a:br>
            <a:br>
              <a:rPr sz="2000"/>
            </a:br>
            <a:r>
              <a:rPr b="0" lang="es-MX" sz="2000" spc="-1" strike="noStrike">
                <a:solidFill>
                  <a:srgbClr val="e3e3ff"/>
                </a:solidFill>
                <a:latin typeface="Arial"/>
              </a:rPr>
              <a:t>------------------------</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e3e3ff"/>
              </a:solidFill>
              <a:latin typeface="Arial"/>
            </a:endParaRPr>
          </a:p>
        </p:txBody>
      </p:sp>
      <p:sp>
        <p:nvSpPr>
          <p:cNvPr id="155" name=""/>
          <p:cNvSpPr/>
          <p:nvPr/>
        </p:nvSpPr>
        <p:spPr>
          <a:xfrm>
            <a:off x="3903840" y="15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0" y="260280"/>
            <a:ext cx="608472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5</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 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a:t>
            </a:r>
            <a:r>
              <a:rPr b="0" i="1" lang="es-MX" sz="4000" spc="-1" strike="noStrike">
                <a:solidFill>
                  <a:srgbClr val="ffffff"/>
                </a:solidFill>
                <a:latin typeface="Arial"/>
              </a:rPr>
              <a:t>m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
          <p:cNvSpPr/>
          <p:nvPr/>
        </p:nvSpPr>
        <p:spPr>
          <a:xfrm>
            <a:off x="6156360" y="1773360"/>
            <a:ext cx="71280" cy="1368360"/>
          </a:xfrm>
          <a:custGeom>
            <a:avLst/>
            <a:gdLst>
              <a:gd name="textAreaLeft" fmla="*/ 0 w 71280"/>
              <a:gd name="textAreaRight" fmla="*/ 25560 w 71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227640" y="364500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32720" y="2421000"/>
            <a:ext cx="1079280" cy="503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udanza</a:t>
            </a:r>
            <a:endParaRPr b="0" lang="en-US" sz="2400" spc="-1" strike="noStrike">
              <a:solidFill>
                <a:srgbClr val="ffffff"/>
              </a:solidFill>
              <a:latin typeface="Arial"/>
            </a:endParaRPr>
          </a:p>
        </p:txBody>
      </p:sp>
      <p:sp>
        <p:nvSpPr>
          <p:cNvPr id="160" name=""/>
          <p:cNvSpPr/>
          <p:nvPr/>
        </p:nvSpPr>
        <p:spPr>
          <a:xfrm>
            <a:off x="6659640" y="3789360"/>
            <a:ext cx="1800000" cy="576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ffffff"/>
                </a:solidFill>
                <a:uFillTx/>
                <a:latin typeface="Arial"/>
              </a:rPr>
              <a:t>Jarya o markaz</a:t>
            </a:r>
            <a:endParaRPr b="0" lang="en-US" sz="2400" spc="-1" strike="noStrike">
              <a:solidFill>
                <a:srgbClr val="ffffff"/>
              </a:solidFill>
              <a:latin typeface="Arial"/>
            </a:endParaRPr>
          </a:p>
        </p:txBody>
      </p:sp>
      <p:sp>
        <p:nvSpPr>
          <p:cNvPr id="161" name=""/>
          <p:cNvSpPr/>
          <p:nvPr/>
        </p:nvSpPr>
        <p:spPr>
          <a:xfrm>
            <a:off x="90360" y="5016600"/>
            <a:ext cx="87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Jarya</a:t>
            </a:r>
            <a:r>
              <a:rPr b="1" lang="es-MX" sz="1800" spc="-1" strike="noStrike">
                <a:solidFill>
                  <a:srgbClr val="ffffff"/>
                </a:solidFill>
                <a:latin typeface="Times New Roman"/>
              </a:rPr>
              <a:t>: salida (origen árabe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markaz</a:t>
            </a:r>
            <a:r>
              <a:rPr b="1" lang="es-MX" sz="1800" spc="-1" strike="noStrike">
                <a:solidFill>
                  <a:srgbClr val="ffffff"/>
                </a:solidFill>
                <a:latin typeface="Times New Roman"/>
              </a:rPr>
              <a:t>: centro, base (origen hispano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scrito con lengua aljamiada (árabe y/o romance), en caracte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s. A la jarya se considera un poemita independiente, previo a la ép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62" name=""/>
          <p:cNvSpPr/>
          <p:nvPr/>
        </p:nvSpPr>
        <p:spPr>
          <a:xfrm>
            <a:off x="4140360" y="260280"/>
            <a:ext cx="1295280" cy="144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547640" y="65160"/>
            <a:ext cx="7596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uwashaha 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y, quien me diera esa cierva que tie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n su mejilla una rosa entre sierp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unque sus lánguidos ojos me hier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allo consuelo en su talle gallar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en su esbeltez, si me  ayudan los had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use, rendido, a sus pies mi meji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ero crecióse en orgullo y mali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dijo, al ver que mi llanto corrí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Dónde aprendiste ese amor extre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ije: “en tus ojos lección he to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Me replicó, y me dejó de una piez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En excusar a mis ojos no cej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No- le corté-, no por Dios, no te ofend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No he de mentar, si no quieres, mi agrav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a soy muslim convertido, y no m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4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os ojos al ciervo le afrent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que a la hurí con su talle supe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692360" y="209520"/>
            <a:ext cx="554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a luz a las vistas aneg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redo secreto es tu amor, y ese arc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e de tenerlo por siempre guard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h tú el más bello de todos los s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i corazón va en pos tuyo, y no vuelv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Óyele cuando la ausencia se due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GAR KOM LEBARE DAL GAIBA: NON TA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YA WELIYOS DEL ASHIQA, SHI NON 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DI CÓMO SOPORTAR ESTA AUSENCIA ¡NO TANTO! [DE E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AY DE LOS OJOS DE LA ENAMORADA, SI NO [ESTÁS] T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50920" y="333360"/>
            <a:ext cx="8893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Teoría del amor de Ibn Hazm (teoría platónica de las al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 parecer es que consiste en la unión entre partes de almas que, en este mundo creado, andan divididas, en relación a como primero eran en su elevada esencia; pero no en el sentido en que lo afirma Muhammad ibn Dawud (Dios se apiade de él) cuando, respaldándose en la opinión de cierto filósofo, dice que “son las almas esferas partidas”, sino en el sentido de la mutua relación que sus potencias tuvieron en la morada de su altísimo mundo y de la vecindad que ahora tienen en la forma de su actual composición.</a:t>
            </a:r>
            <a:r>
              <a:rPr b="1"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son</a:t>
            </a:r>
            <a:r>
              <a:rPr b="1" lang="es-ES_tradnl" sz="1800" spc="-1" strike="noStrike">
                <a:solidFill>
                  <a:srgbClr val="ffffff"/>
                </a:solidFill>
                <a:latin typeface="Arial"/>
              </a:rPr>
              <a:t>: que no pueda el amante dirigir la palabra a otra persona que no sea su amado, aunque se lo proponga, pues entonces la violencia quedará patente para quien lo observe; que calle embebecido, cuando hable el amado; que encuentre bien cuanto diga, aunque sea un puro absurdo y una cosa insólita; que le dé la razón, aún cuando mienta; que se muestre siempre de acuerdo con él, aun cuando yerre; que atestigüe en su favor, aun cuando obre con injusticia, y que le siga en la plática por dondequiera que la lleve y sea cualquiera el giro que l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20:29:32Z</dcterms:created>
  <dc:creator> </dc:creator>
  <dc:description/>
  <dc:language>en-US</dc:language>
  <cp:lastModifiedBy>-</cp:lastModifiedBy>
  <dcterms:modified xsi:type="dcterms:W3CDTF">2008-10-13T23:53:54Z</dcterms:modified>
  <cp:revision>41</cp:revision>
  <dc:subject/>
  <dc:title>Diapositiva 1</dc:title>
</cp:coreProperties>
</file>